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0E618-2F88-43A6-BA00-7938F214B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F8229-20F6-48D0-9C6D-8863C3B27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7FBBA-A853-4466-803E-D124BB5F3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A65A0-92AB-45BB-8105-DA8284451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CEDB-2DA6-4F3A-A45B-73A9497D5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8818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640" y="4374000"/>
            <a:ext cx="8818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2B57-27D9-4841-B8B5-EEF5063E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640" y="4374000"/>
            <a:ext cx="4303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374000"/>
            <a:ext cx="4303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D5D0-0B3A-4C5E-BA33-6E34DBE51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2839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21160" y="1768320"/>
            <a:ext cx="2839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3040" y="1768320"/>
            <a:ext cx="2839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640" y="4374000"/>
            <a:ext cx="2839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21160" y="4374000"/>
            <a:ext cx="2839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03040" y="4374000"/>
            <a:ext cx="2839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7ED9-2814-44CC-9BE2-ADE03EE2A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730D-D18F-44FA-8941-38FF2CB43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9640" y="1768320"/>
            <a:ext cx="8818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A094-268D-4F51-A3AD-E3F98BAC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8818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EE88-DC21-4CD6-BA8E-C72EBA72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CB92-42D9-4F6F-BC2F-033A2604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939F-173E-4D10-88DE-DB2110D0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9640" y="539640"/>
            <a:ext cx="881856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C7CD-3376-46A2-A613-435DB3DB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9640" y="4374000"/>
            <a:ext cx="4303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9A83-047A-4484-A866-C9735A9D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640" y="1768320"/>
            <a:ext cx="8818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7495-4B0B-4C73-BC59-4FC5254E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8720" y="4374000"/>
            <a:ext cx="4303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DD0C-0870-4DEC-BE4D-704F2C66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9640" y="4374000"/>
            <a:ext cx="8818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DBDF-EB3A-4429-BBB9-B50D8DAF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8818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9640" y="4374000"/>
            <a:ext cx="8818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5A12-AFCE-4162-B1A7-6406DE80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9640" y="4374000"/>
            <a:ext cx="4303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8720" y="4374000"/>
            <a:ext cx="4303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C5A0-8D64-4186-99D8-37F0B86BA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2839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21160" y="1768320"/>
            <a:ext cx="2839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03040" y="1768320"/>
            <a:ext cx="2839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9640" y="4374000"/>
            <a:ext cx="2839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21160" y="4374000"/>
            <a:ext cx="2839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03040" y="4374000"/>
            <a:ext cx="28393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1C57-955D-4C33-89D1-6AEF9A979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8818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591C-DB15-4CA7-B7AB-1FABB50E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3FB2-28A2-4FC3-ABA6-0111987B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6425-CFBB-4189-9EDF-B230E3FD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539640"/>
            <a:ext cx="8818560" cy="47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D370-FA9D-443A-82CA-9C177197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640" y="4374000"/>
            <a:ext cx="4303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77BB-2A8F-4E9C-9156-B25857A1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374000"/>
            <a:ext cx="4303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0582-B8FA-4BBB-98ED-64EEA65D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1768320"/>
            <a:ext cx="4303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768320"/>
            <a:ext cx="43034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640" y="4374000"/>
            <a:ext cx="8818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CD06-FFCC-4724-8335-109C1667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i-F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911917D-211D-420A-B89A-4B1C4BF66721}" type="slidenum"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539640"/>
            <a:ext cx="881856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9640" y="1768320"/>
            <a:ext cx="8818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9280" y="6995880"/>
            <a:ext cx="233676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71480" y="6995880"/>
            <a:ext cx="31798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7080" y="6995880"/>
            <a:ext cx="233676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A241127-E6F4-4CBF-9FC6-A69C431A58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2036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4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he-IL" sz="4400" spc="-1" strike="noStrike">
                <a:solidFill>
                  <a:srgbClr val="ffffff"/>
                </a:solidFill>
                <a:latin typeface="Arial"/>
              </a:rPr>
              <a:t>לוּ/לוֹ</a:t>
            </a:r>
            <a:r>
              <a:rPr b="0" lang="he-IL" sz="44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he-IL" sz="4400" spc="-1" strike="noStrike">
                <a:solidFill>
                  <a:srgbClr val="ffffff"/>
                </a:solidFill>
                <a:latin typeface="Arial"/>
              </a:rPr>
              <a:t>הָיִיתִי רוטשיל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59480" y="6450120"/>
            <a:ext cx="4572000" cy="110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 algn="r" rtl="1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cs typeface="Tahoma"/>
              </a:rPr>
              <a:t>ע”י פאודור ואבינוע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687680" y="1722240"/>
            <a:ext cx="7046640" cy="1447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 algn="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אֵם/אִם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] [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הָיָה/הֱיֵה/הָיֹה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לָכֶם רַעְיוֹן לֹא הֱיִיתֶם רוֹצִים לְהַצִּיג אוֹתוֹ [בְּצוּרָה/בַּצּוּרָה] [יֻתַּר/יוֹתֵר] בָּרוּרה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1077840" y="3475080"/>
            <a:ext cx="762012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e-IL" sz="4000" spc="-1" strike="noStrike">
                <a:solidFill>
                  <a:srgbClr val="ffffff"/>
                </a:solidFill>
                <a:latin typeface="Arial"/>
                <a:cs typeface="Tahoma"/>
              </a:rPr>
              <a:t>אוּלַי מְעַנְיֶנֶת [יֻתַּר/יוֹתֵר]</a:t>
            </a:r>
            <a:r>
              <a:rPr b="0" lang="he-IL" sz="4000" spc="-1" strike="noStrike">
                <a:solidFill>
                  <a:srgbClr val="ffffff"/>
                </a:solidFill>
                <a:latin typeface="Arial"/>
                <a:ea typeface="Tahoma"/>
              </a:rPr>
              <a:t>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1154160" y="4694400"/>
            <a:ext cx="762012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e-IL" sz="5400" spc="-1" strike="noStrike">
                <a:solidFill>
                  <a:srgbClr val="ffffff"/>
                </a:solidFill>
                <a:latin typeface="Arial"/>
                <a:cs typeface="Tahoma"/>
              </a:rPr>
              <a:t>אִינְטֶלִיגֶנְטִית וּמְעַנְיֶנֶת</a:t>
            </a:r>
            <a:r>
              <a:rPr b="0" lang="he-IL" sz="54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he-IL" sz="5400" spc="-1" strike="noStrike">
                <a:solidFill>
                  <a:srgbClr val="ffffff"/>
                </a:solidFill>
                <a:latin typeface="Arial"/>
                <a:ea typeface="Tahoma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2036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4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he-IL" sz="4400" spc="-1" strike="noStrike">
                <a:solidFill>
                  <a:srgbClr val="ffffff"/>
                </a:solidFill>
                <a:latin typeface="Arial"/>
              </a:rPr>
              <a:t>לוּ/לוֹ</a:t>
            </a:r>
            <a:r>
              <a:rPr b="0" lang="he-IL" sz="44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he-IL" sz="4400" spc="-1" strike="noStrike">
                <a:solidFill>
                  <a:srgbClr val="ffffff"/>
                </a:solidFill>
                <a:latin typeface="Arial"/>
              </a:rPr>
              <a:t>הָיִיתִי רוטשיל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735440" y="6450120"/>
            <a:ext cx="4572000" cy="110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 algn="r" rtl="1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cs typeface="Tahoma"/>
              </a:rPr>
              <a:t>ע”י פאודור ואבינוע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611000" y="3932280"/>
            <a:ext cx="7047000" cy="1897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 algn="r" rtl="1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2800" spc="-1" strike="noStrike">
                <a:solidFill>
                  <a:srgbClr val="ffffff"/>
                </a:solidFill>
                <a:latin typeface="Arial"/>
                <a:cs typeface="Tahoma"/>
              </a:rPr>
              <a:t>לידע כללי: בגלל שבשפה העברית יש יותר מידי יוצאים מן הכלל רוב הנקדנים כיום מעדיפים לשאול אותך למה התכוונתה ולא לנסות להבין תחבירית את המשפט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773280" y="2103480"/>
            <a:ext cx="8173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cs typeface="Tahoma"/>
              </a:rPr>
              <a:t>לא הייתם מעדיפים שהמחשב שלכם היה כבר יודע את הניקוד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  <a:cs typeface="Tahoma"/>
              </a:rPr>
              <a:t>הנכון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 למילים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  <a:ea typeface="Tahoma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1839960" y="1569960"/>
            <a:ext cx="708660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cs typeface="Tahoma"/>
              </a:rPr>
              <a:t>למה המחשב לא יכול לנקד</a:t>
            </a:r>
            <a:r>
              <a:rPr b="0" lang="he-IL" sz="28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cs typeface="Tahoma"/>
              </a:rPr>
              <a:t>בצורה טובה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82036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e-IL" sz="4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he-IL" sz="4400" spc="-1" strike="noStrike">
                <a:solidFill>
                  <a:srgbClr val="ffffff"/>
                </a:solidFill>
                <a:latin typeface="Arial"/>
              </a:rPr>
              <a:t>לוּ/לוֹ</a:t>
            </a:r>
            <a:r>
              <a:rPr b="0" lang="he-IL" sz="44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0" lang="he-IL" sz="4400" spc="-1" strike="noStrike">
                <a:solidFill>
                  <a:srgbClr val="ffffff"/>
                </a:solidFill>
                <a:latin typeface="Arial"/>
              </a:rPr>
              <a:t>הָיִיתִי רוטשיל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59480" y="6218280"/>
            <a:ext cx="4572000" cy="110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 algn="r" rtl="1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cs typeface="Tahoma"/>
              </a:rPr>
              <a:t>ע”י פאודור ואבינוע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39440" y="1730520"/>
            <a:ext cx="7047000" cy="3192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 algn="r" rtl="1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cs typeface="Tahoma"/>
              </a:rPr>
              <a:t>זהוא מצאנו את האלגורית שיפתור את זה ע”י שילוב אלגורית לניקוד ביחד עם אלגורית סטטיסטיקה נוכל ליצור את המילון הכי מדוייק של ניקוד אשר יש לו בחירה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cs typeface="Tahoma"/>
              </a:rPr>
              <a:t>מצויינות ובעל יכולת למידה עצמי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r" rtl="1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6T00:49:13Z</dcterms:created>
  <dc:creator>avi </dc:creator>
  <dc:description/>
  <dc:language>en-US</dc:language>
  <cp:lastModifiedBy>Chester</cp:lastModifiedBy>
  <dcterms:modified xsi:type="dcterms:W3CDTF">2010-10-16T23:08:19Z</dcterms:modified>
  <cp:revision>15</cp:revision>
  <dc:subject/>
  <dc:title>[לוּ/לוֹ] הָיִיתִי רוטשילד</dc:title>
</cp:coreProperties>
</file>