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5F7E-04DF-4E7B-8AAE-0CF5438A6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59CD-9A42-416D-AFB7-0830B1961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AF26-5928-46C0-B7E5-5404E4416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DCC-FCDB-4633-B84D-50C0B304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747-6435-47BD-9DB0-9FF2FC24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271-DDC3-44E1-81BB-E7162D41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369-1A96-4726-86C9-E3F0DCF3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D3C-8923-4519-AE97-659E08DE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948-363A-42A2-AA53-6993CCF0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9A0-8AEA-4FEC-B154-774926BA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AD8-05C9-4392-BA0E-5B9843EA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3EA-9491-4201-B135-13575827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285-2BF2-4BF8-A4EE-C467D82F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641-7F88-4D83-9027-BEF37B7E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0F1-E1DB-4CA4-9E13-33DCD66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0372-8A14-443C-8381-4D213EAC4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Kestr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7440" y="457200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ory Bowers, Harold Gray, Rick Harris, Varun Madan, Rahul Sharma, Lance St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PSC 362, Spring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clemsonschoolofcomputing.tiff"/>
          <p:cNvPicPr/>
          <p:nvPr/>
        </p:nvPicPr>
        <p:blipFill>
          <a:blip r:embed="rId2"/>
          <a:stretch/>
        </p:blipFill>
        <p:spPr>
          <a:xfrm>
            <a:off x="7188120" y="0"/>
            <a:ext cx="29718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33"/>
                </a:solidFill>
                <a:latin typeface="Arial"/>
              </a:rPr>
              <a:t>Conclus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Arial"/>
              </a:rPr>
              <a:t>Wo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Firewalls between Wired and Wirel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Adding Necessary Software to Machines (solve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Arial"/>
              </a:rPr>
              <a:t>Discover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More Python/Netwo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How to use json/SSL/M2Cryp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Fetching System Spe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SQLAlchem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33"/>
                </a:solidFill>
                <a:latin typeface="Arial"/>
              </a:rPr>
              <a:t>To Be Continued…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Sending/Executing Fi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Pluggable Scheduling (creating more plug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Maybe </a:t>
            </a:r>
            <a:r>
              <a:rPr b="0" lang="en-US" sz="27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Firewall Hopp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clemsonschoolofcomputing.tiff"/>
          <p:cNvPicPr/>
          <p:nvPr/>
        </p:nvPicPr>
        <p:blipFill>
          <a:blip r:embed="rId2"/>
          <a:stretch/>
        </p:blipFill>
        <p:spPr>
          <a:xfrm>
            <a:off x="7188120" y="0"/>
            <a:ext cx="29718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320" y="304920"/>
            <a:ext cx="6737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33"/>
                </a:solidFill>
                <a:latin typeface="Arial"/>
              </a:rPr>
              <a:t>Acknowledgments and Referen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7680" y="3276720"/>
            <a:ext cx="96645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-Condor: A good idea that we want to build 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1] "Python 2.5 Documentation,” Sept. 19, 2006. [Online]. Available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ttp://www.python.org/doc/2.5/. [Accessed: April 19, 2009]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clemsonschoolofcomputing.tiff"/>
          <p:cNvPicPr/>
          <p:nvPr/>
        </p:nvPicPr>
        <p:blipFill>
          <a:blip r:embed="rId2"/>
          <a:stretch/>
        </p:blipFill>
        <p:spPr>
          <a:xfrm>
            <a:off x="7188120" y="0"/>
            <a:ext cx="29718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33"/>
                </a:solidFill>
                <a:latin typeface="Arial"/>
              </a:rPr>
              <a:t>Introdu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Motiv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Looks good on the resu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Condor is lack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Descrip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Kestrel: a Python coded Distributed Computing System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Pl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Easy Setu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Be Sec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Module Based for Growt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Take Over The Worl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clemsonschoolofcomputing.tiff"/>
          <p:cNvPicPr/>
          <p:nvPr/>
        </p:nvPicPr>
        <p:blipFill>
          <a:blip r:embed="rId2"/>
          <a:stretch/>
        </p:blipFill>
        <p:spPr>
          <a:xfrm>
            <a:off x="7188120" y="0"/>
            <a:ext cx="29718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33"/>
                </a:solidFill>
                <a:latin typeface="Arial"/>
              </a:rPr>
              <a:t>Technology Overvi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Python (Languag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Because we had 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Fairly flexible across platfor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Mercurial</a:t>
            </a: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 (Distributed Version Control Syste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Because it’s aweso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Works on every platfor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Everyone contrib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Everyone receiv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NO EMAIL/INSTANT MESSAG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bitbuck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Because it’s technology is necessary for Mercur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It’s fre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It has a wikipedia for the projec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It has “issue” track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It keeps us organiz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It’s pret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clemsonschoolofcomputing.tiff"/>
          <p:cNvPicPr/>
          <p:nvPr/>
        </p:nvPicPr>
        <p:blipFill>
          <a:blip r:embed="rId2"/>
          <a:stretch/>
        </p:blipFill>
        <p:spPr>
          <a:xfrm>
            <a:off x="7188120" y="0"/>
            <a:ext cx="29718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688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Relevance to Distributed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This is a no brainer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We are creating a Distributed Computing Syste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clemsonschoolofcomputing.tiff"/>
          <p:cNvPicPr/>
          <p:nvPr/>
        </p:nvPicPr>
        <p:blipFill>
          <a:blip r:embed="rId2"/>
          <a:stretch/>
        </p:blipFill>
        <p:spPr>
          <a:xfrm>
            <a:off x="7188120" y="0"/>
            <a:ext cx="29718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33"/>
                </a:solidFill>
                <a:latin typeface="Arial"/>
              </a:rPr>
              <a:t>Stud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9000" y="1447920"/>
            <a:ext cx="9664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Architecture Diagr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clemsonschoolofcomputing.tiff"/>
          <p:cNvPicPr/>
          <p:nvPr/>
        </p:nvPicPr>
        <p:blipFill>
          <a:blip r:embed="rId2"/>
          <a:stretch/>
        </p:blipFill>
        <p:spPr>
          <a:xfrm>
            <a:off x="7188120" y="0"/>
            <a:ext cx="2971800" cy="873000"/>
          </a:xfrm>
          <a:prstGeom prst="rect">
            <a:avLst/>
          </a:prstGeom>
          <a:ln w="0">
            <a:noFill/>
          </a:ln>
        </p:spPr>
      </p:pic>
      <p:sp>
        <p:nvSpPr>
          <p:cNvPr id="63" name="Can 4"/>
          <p:cNvSpPr/>
          <p:nvPr/>
        </p:nvSpPr>
        <p:spPr>
          <a:xfrm>
            <a:off x="5384880" y="3276720"/>
            <a:ext cx="1371600" cy="761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460840" y="1600200"/>
            <a:ext cx="1486080" cy="693720"/>
          </a:xfrm>
          <a:prstGeom prst="ellips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7"/>
          <p:cNvSpPr/>
          <p:nvPr/>
        </p:nvSpPr>
        <p:spPr>
          <a:xfrm>
            <a:off x="3403440" y="1905120"/>
            <a:ext cx="1981440" cy="693720"/>
          </a:xfrm>
          <a:prstGeom prst="ellips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8"/>
          <p:cNvSpPr/>
          <p:nvPr/>
        </p:nvSpPr>
        <p:spPr>
          <a:xfrm>
            <a:off x="6985080" y="2057400"/>
            <a:ext cx="2361960" cy="693720"/>
          </a:xfrm>
          <a:prstGeom prst="ellips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o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Straight Arrow Connector 10"/>
          <p:cNvCxnSpPr>
            <a:stCxn id="64" idx="6"/>
            <a:endCxn id="66" idx="1"/>
          </p:cNvCxnSpPr>
          <p:nvPr/>
        </p:nvCxnSpPr>
        <p:spPr>
          <a:xfrm>
            <a:off x="6946560" y="1947960"/>
            <a:ext cx="384840" cy="21168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68" name="Straight Arrow Connector 12"/>
          <p:cNvCxnSpPr>
            <a:stCxn id="64" idx="2"/>
            <a:endCxn id="65" idx="7"/>
          </p:cNvCxnSpPr>
          <p:nvPr/>
        </p:nvCxnSpPr>
        <p:spPr>
          <a:xfrm flipH="1">
            <a:off x="5094000" y="1946880"/>
            <a:ext cx="367200" cy="594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69" name="Straight Arrow Connector 16"/>
          <p:cNvCxnSpPr>
            <a:stCxn id="70" idx="6"/>
            <a:endCxn id="66" idx="3"/>
          </p:cNvCxnSpPr>
          <p:nvPr/>
        </p:nvCxnSpPr>
        <p:spPr>
          <a:xfrm flipV="1">
            <a:off x="7137360" y="2648880"/>
            <a:ext cx="194400" cy="137160"/>
          </a:xfrm>
          <a:prstGeom prst="straightConnector1">
            <a:avLst/>
          </a:prstGeom>
          <a:ln w="25560">
            <a:solidFill>
              <a:srgbClr val="00cc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" name="Straight Arrow Connector 18"/>
          <p:cNvCxnSpPr>
            <a:stCxn id="65" idx="5"/>
            <a:endCxn id="70" idx="2"/>
          </p:cNvCxnSpPr>
          <p:nvPr/>
        </p:nvCxnSpPr>
        <p:spPr>
          <a:xfrm>
            <a:off x="5094360" y="2496600"/>
            <a:ext cx="62640" cy="28836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72" name="Oval 26"/>
          <p:cNvSpPr/>
          <p:nvPr/>
        </p:nvSpPr>
        <p:spPr>
          <a:xfrm>
            <a:off x="507960" y="5334120"/>
            <a:ext cx="1981080" cy="693720"/>
          </a:xfrm>
          <a:prstGeom prst="ellips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27"/>
          <p:cNvSpPr/>
          <p:nvPr/>
        </p:nvSpPr>
        <p:spPr>
          <a:xfrm>
            <a:off x="2565360" y="5029200"/>
            <a:ext cx="1447920" cy="693720"/>
          </a:xfrm>
          <a:prstGeom prst="ellips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loud 28"/>
          <p:cNvSpPr/>
          <p:nvPr/>
        </p:nvSpPr>
        <p:spPr>
          <a:xfrm>
            <a:off x="7670880" y="4495680"/>
            <a:ext cx="2057400" cy="685800"/>
          </a:xfrm>
          <a:prstGeom prst="pi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Curved Connector 39"/>
          <p:cNvCxnSpPr>
            <a:stCxn id="76" idx="2"/>
            <a:endCxn id="65" idx="2"/>
          </p:cNvCxnSpPr>
          <p:nvPr/>
        </p:nvCxnSpPr>
        <p:spPr>
          <a:xfrm rot="10800000">
            <a:off x="3402720" y="2251800"/>
            <a:ext cx="2520" cy="948600"/>
          </a:xfrm>
          <a:prstGeom prst="curvedConnector5">
            <a:avLst>
              <a:gd name="adj1" fmla="val 14383333"/>
              <a:gd name="adj2" fmla="val 50000"/>
              <a:gd name="adj3" fmla="val 14383333"/>
            </a:avLst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77" name="Donut 41"/>
          <p:cNvSpPr/>
          <p:nvPr/>
        </p:nvSpPr>
        <p:spPr>
          <a:xfrm>
            <a:off x="2641680" y="1447920"/>
            <a:ext cx="7315200" cy="2743200"/>
          </a:xfrm>
          <a:prstGeom prst="pi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nut 42"/>
          <p:cNvSpPr/>
          <p:nvPr/>
        </p:nvSpPr>
        <p:spPr>
          <a:xfrm>
            <a:off x="203040" y="4572000"/>
            <a:ext cx="7315200" cy="2819520"/>
          </a:xfrm>
          <a:prstGeom prst="pi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Straight Arrow Connector 45"/>
          <p:cNvCxnSpPr>
            <a:stCxn id="78" idx="8"/>
            <a:endCxn id="74" idx="4"/>
          </p:cNvCxnSpPr>
          <p:nvPr/>
        </p:nvCxnSpPr>
        <p:spPr>
          <a:xfrm flipV="1">
            <a:off x="7517880" y="5180760"/>
            <a:ext cx="1181880" cy="8010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47"/>
          <p:cNvCxnSpPr>
            <a:stCxn id="74" idx="5"/>
            <a:endCxn id="77" idx="8"/>
          </p:cNvCxnSpPr>
          <p:nvPr/>
        </p:nvCxnSpPr>
        <p:spPr>
          <a:xfrm flipV="1">
            <a:off x="8699400" y="3788640"/>
            <a:ext cx="186480" cy="7470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1" name="Straight Arrow Connector 52"/>
          <p:cNvCxnSpPr>
            <a:stCxn id="73" idx="7"/>
            <a:endCxn id="76" idx="4"/>
          </p:cNvCxnSpPr>
          <p:nvPr/>
        </p:nvCxnSpPr>
        <p:spPr>
          <a:xfrm flipV="1">
            <a:off x="3799440" y="3733560"/>
            <a:ext cx="556200" cy="139752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82" name="Straight Arrow Connector 54"/>
          <p:cNvCxnSpPr>
            <a:stCxn id="72" idx="0"/>
            <a:endCxn id="76" idx="3"/>
          </p:cNvCxnSpPr>
          <p:nvPr/>
        </p:nvCxnSpPr>
        <p:spPr>
          <a:xfrm flipV="1">
            <a:off x="1498680" y="3577680"/>
            <a:ext cx="2185200" cy="175644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83" name="Oval 58"/>
          <p:cNvSpPr/>
          <p:nvPr/>
        </p:nvSpPr>
        <p:spPr>
          <a:xfrm>
            <a:off x="4851360" y="5257800"/>
            <a:ext cx="914400" cy="693720"/>
          </a:xfrm>
          <a:prstGeom prst="ellips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59"/>
          <p:cNvSpPr/>
          <p:nvPr/>
        </p:nvSpPr>
        <p:spPr>
          <a:xfrm>
            <a:off x="5384880" y="5943600"/>
            <a:ext cx="1676160" cy="693720"/>
          </a:xfrm>
          <a:prstGeom prst="ellips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61"/>
          <p:cNvSpPr/>
          <p:nvPr/>
        </p:nvSpPr>
        <p:spPr>
          <a:xfrm>
            <a:off x="1270080" y="6095880"/>
            <a:ext cx="1828800" cy="693720"/>
          </a:xfrm>
          <a:prstGeom prst="ellips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Curved Connector 63"/>
          <p:cNvCxnSpPr>
            <a:stCxn id="85" idx="7"/>
            <a:endCxn id="73" idx="4"/>
          </p:cNvCxnSpPr>
          <p:nvPr/>
        </p:nvCxnSpPr>
        <p:spPr>
          <a:xfrm flipH="1" flipV="1" rot="5400000">
            <a:off x="2822400" y="5730480"/>
            <a:ext cx="475560" cy="45936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76" name="Oval 64"/>
          <p:cNvSpPr/>
          <p:nvPr/>
        </p:nvSpPr>
        <p:spPr>
          <a:xfrm>
            <a:off x="3403440" y="2666880"/>
            <a:ext cx="1905120" cy="1067040"/>
          </a:xfrm>
          <a:prstGeom prst="ellips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/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65"/>
          <p:cNvSpPr/>
          <p:nvPr/>
        </p:nvSpPr>
        <p:spPr>
          <a:xfrm>
            <a:off x="5156280" y="2438280"/>
            <a:ext cx="1981080" cy="693720"/>
          </a:xfrm>
          <a:prstGeom prst="ellipse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Shape 103"/>
          <p:cNvCxnSpPr>
            <a:stCxn id="63" idx="4"/>
            <a:endCxn id="70" idx="5"/>
          </p:cNvCxnSpPr>
          <p:nvPr/>
        </p:nvCxnSpPr>
        <p:spPr>
          <a:xfrm flipV="1">
            <a:off x="6756120" y="3030120"/>
            <a:ext cx="91080" cy="627840"/>
          </a:xfrm>
          <a:prstGeom prst="curvedConnector2">
            <a:avLst/>
          </a:prstGeom>
          <a:ln w="25560">
            <a:solidFill>
              <a:srgbClr val="00cc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8" name="Straight Arrow Connector 105"/>
          <p:cNvCxnSpPr>
            <a:stCxn id="66" idx="4"/>
            <a:endCxn id="84" idx="0"/>
          </p:cNvCxnSpPr>
          <p:nvPr/>
        </p:nvCxnSpPr>
        <p:spPr>
          <a:xfrm flipH="1">
            <a:off x="6222600" y="2751120"/>
            <a:ext cx="1944000" cy="31932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9" name="Straight Arrow Connector 107"/>
          <p:cNvCxnSpPr>
            <a:stCxn id="66" idx="4"/>
            <a:endCxn id="83" idx="7"/>
          </p:cNvCxnSpPr>
          <p:nvPr/>
        </p:nvCxnSpPr>
        <p:spPr>
          <a:xfrm flipH="1">
            <a:off x="5632200" y="2750760"/>
            <a:ext cx="2534400" cy="2608920"/>
          </a:xfrm>
          <a:prstGeom prst="straightConnector1">
            <a:avLst/>
          </a:prstGeom>
          <a:ln w="25560">
            <a:solidFill>
              <a:srgbClr val="00cc99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33"/>
                </a:solidFill>
                <a:latin typeface="Arial"/>
              </a:rPr>
              <a:t>Stud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Fea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NOT Cond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simplejs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SSL Secur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SQLAlchem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Faster Machine Updates Than Cond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Better OS Detec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No Compile Needed! (Python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Langu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Python, Python, Pyth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SQ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js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clemsonschoolofcomputing.tiff"/>
          <p:cNvPicPr/>
          <p:nvPr/>
        </p:nvPicPr>
        <p:blipFill>
          <a:blip r:embed="rId2"/>
          <a:stretch/>
        </p:blipFill>
        <p:spPr>
          <a:xfrm>
            <a:off x="7188120" y="0"/>
            <a:ext cx="29718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33"/>
                </a:solidFill>
                <a:latin typeface="Arial"/>
              </a:rPr>
              <a:t>Stud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clemsonschoolofcomputing.tiff"/>
          <p:cNvPicPr/>
          <p:nvPr/>
        </p:nvPicPr>
        <p:blipFill>
          <a:blip r:embed="rId2"/>
          <a:stretch/>
        </p:blipFill>
        <p:spPr>
          <a:xfrm>
            <a:off x="7188120" y="0"/>
            <a:ext cx="2971800" cy="873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736560" y="1371600"/>
            <a:ext cx="866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stem ClassA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u'ip': u'172.22.3.194', u'ram': 2147483648L, u'os_version': u'9.6.0', u'arch': u'32', u'type': u'machine', u'cores': 2, u'os': u'Darwin'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bmis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{ 'type':"Job", 'localid':12, 'requirements':”{‘cpsc362’:”true”}", 'output':"output.txt", 'error' :"error.txt", 'log' : "log.txt", 'executable' : "executable.exe", 'arguments' : "xyz", 'transfer' : "true", 'queue' : 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ob Statu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'job_id': "jobid", 'type' : "job_status", 'status' : "running/idle/complete/rejected",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chine Statu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'type' : "machine_status", 'status' : "alive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33"/>
                </a:solidFill>
                <a:latin typeface="Arial"/>
              </a:rPr>
              <a:t>Stud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9000" y="1523880"/>
            <a:ext cx="96649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333333"/>
                </a:solidFill>
                <a:uFillTx/>
                <a:latin typeface="Arial"/>
              </a:rPr>
              <a:t>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Cory: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etworking, S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Harold: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etwork Threading,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Rick: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json, Class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Varun: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tabas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Rahul: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tabase Construction, Job Requirements Pa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Lance: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eam Leader, Software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clemsonschoolofcomputing.tiff"/>
          <p:cNvPicPr/>
          <p:nvPr/>
        </p:nvPicPr>
        <p:blipFill>
          <a:blip r:embed="rId2"/>
          <a:stretch/>
        </p:blipFill>
        <p:spPr>
          <a:xfrm>
            <a:off x="7188120" y="0"/>
            <a:ext cx="29718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3333"/>
                </a:solidFill>
                <a:latin typeface="Arial"/>
              </a:rPr>
              <a:t>Resul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Arial"/>
              </a:rPr>
              <a:t>Demo Time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clemsonschoolofcomputing.tiff"/>
          <p:cNvPicPr/>
          <p:nvPr/>
        </p:nvPicPr>
        <p:blipFill>
          <a:blip r:embed="rId2"/>
          <a:stretch/>
        </p:blipFill>
        <p:spPr>
          <a:xfrm>
            <a:off x="7188120" y="0"/>
            <a:ext cx="297180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7:05:05Z</dcterms:created>
  <dc:creator>Google</dc:creator>
  <dc:description/>
  <dc:language>en-US</dc:language>
  <cp:lastModifiedBy>Harold Gray</cp:lastModifiedBy>
  <dcterms:modified xsi:type="dcterms:W3CDTF">2009-04-19T20:34:28Z</dcterms:modified>
  <cp:revision>51</cp:revision>
  <dc:subject/>
  <dc:title>PowerPoint Presentation</dc:title>
</cp:coreProperties>
</file>