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StarUML" initials="S" lastIdx="2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 standalone="yes"?>
<p:cmLst xmlns:p="http://schemas.openxmlformats.org/presentationml/2006/main"><p:cm authorId="0" dt="2005-10-29T12:41:54.609000000" idx="1"><p:pos x="4616" y="2736"/><p:text><<DISPLAY-TEXT>>
::;current().Author;</p:text></p:cm><p:cm authorId="0" dt="2005-10-29T12:41:54.609000000" idx="2"><p:pos x="4616" y="2960"/><p:text><<DISPLAY-TEXT>>
::;current().Company;</p:text></p:cm><p:cm authorId="0" dt="2005-10-29T12:41:54.609000000" idx="3"><p:pos x="2402" y="3202"/><p:text><<DISPLAY-TEXT>>
::;current().Copyright;</p:text></p:cm><p:cm authorId="0" dt="2005-10-29T12:41:54.609000000" idx="4"><p:pos x="1376" y="1200"/><p:text><<DISPLAY-TEXT>>
::;current().Title;</p:text></p:cm></p:cmLst>
</file>

<file path=ppt/comments/comment2.xml><?xml version="1.0" encoding="UTF-8" standalone="yes"?>
<p:cmLst xmlns:p="http://schemas.openxmlformats.org/presentationml/2006/main"><p:cm authorId="0" dt="2005-10-29T12:54:39.343000000" idx="5"><p:pos x="1296" y="1368"/><p:text><<DISPLAY-TEXT>>
;current().Documentation</p:text></p:cm></p:cmLst>
</file>

<file path=ppt/comments/comment3.xml><?xml version="1.0" encoding="UTF-8" standalone="yes"?>
<p:cmLst xmlns:p="http://schemas.openxmlformats.org/presentationml/2006/main"><p:cm authorId="0" dt="2005-10-29T14:23:02.953000000" idx="6"><p:pos x="0" y="0"/><p:text><<REPEAT>>
{R}::Use Case Model;UMLPackage;;</p:text></p:cm><p:cm authorId="0" dt="2005-10-29T14:23:02.968000000" idx="7"><p:pos x="1344" y="1424"/><p:text><<DISPLAY-TEXT>>
;current().Documentation;</p:text></p:cm><p:cm authorId="0" dt="2005-10-29T14:23:02.968000000" idx="8"><p:pos x="2440" y="472"/><p:text><<DISPLAY-TEXT>>
;current().Name;</p:text></p:cm></p:cmLst>
</file>

<file path=ppt/comments/comment4.xml><?xml version="1.0" encoding="UTF-8" standalone="yes"?>
<p:cmLst xmlns:p="http://schemas.openxmlformats.org/presentationml/2006/main"><p:cm authorId="0" dt="2005-10-29T14:16:46.640000000" idx="9"><p:pos x="80" y="72"/><p:text><<REPEAT>>
;UMLUseCaseDiagram;;</p:text></p:cm><p:cm authorId="0" dt="2005-10-29T14:16:46.640000000" idx="10"><p:pos x="3712" y="448"/><p:text><<DISPLAY-TEXT>>
;current().Name</p:text></p:cm><p:cm authorId="0" dt="2005-10-29T14:16:46.656000000" idx="11"><p:pos x="1016" y="3256"/><p:text><<DISPLAY-TEXT>>
;current().Documentation;</p:text></p:cm><p:cm authorId="0" dt="2005-10-29T14:16:46.656000000" idx="12"><p:pos x="1672" y="1528"/><p:text><<DISPLAY-IMAGE>>
;;</p:text></p:cm><p:cm authorId="0" dt="2005-10-29T14:16:46.656000000" idx="13"><p:pos x="112" y="4120"/><p:text><<ENDREPEAT>></p:text></p:cm></p:cmLst>
</file>

<file path=ppt/comments/comment5.xml><?xml version="1.0" encoding="UTF-8" standalone="yes"?>
<p:cmLst xmlns:p="http://schemas.openxmlformats.org/presentationml/2006/main"><p:cm authorId="0" dt="2005-10-29T14:17:08.078000000" idx="14"><p:pos x="0" y="0"/><p:text><<REPEAT>>
;UMLUseCase;;</p:text></p:cm><p:cm authorId="0" dt="2005-10-29T14:17:08.078000000" idx="15"><p:pos x="2408" y="432"/><p:text><<DISPLAY-TEXT>>
;current().Name</p:text></p:cm><p:cm authorId="0" dt="2005-10-29T14:17:08.093000000" idx="16"><p:pos x="1248" y="1200"/><p:text><<DISPLAY-TEXT>>
;current().Documentation;</p:text></p:cm><p:cm authorId="0" dt="2005-10-29T14:17:08.093000000" idx="17"><p:pos x="1256" y="1624"/><p:text><<DISPLAY-TEXT>>
;trim(current().GetTaggedValueAsString("UMLStandard", "UseCaseSpecification", "BasicFlow"));</p:text></p:cm><p:cm authorId="0" dt="2005-10-29T14:17:08.093000000" idx="18"><p:pos x="1280" y="2048"/><p:text><<DISPLAY-TEXT>>
;trim(current().GetTaggedValueAsString("UMLStandard", "UseCaseSpecification", "AlternativeFlows"));</p:text></p:cm><p:cm authorId="0" dt="2005-10-29T14:17:08.093000000" idx="19"><p:pos x="1280" y="2456"/><p:text><<DISPLAY-TEXT>>
;trim(current().GetTaggedValueAsString("UMLStandard", "UseCaseSpecification", "Preconditions"));</p:text></p:cm><p:cm authorId="0" dt="2005-10-29T14:17:08.093000000" idx="20"><p:pos x="1264" y="2872"/><p:text><<DISPLAY-TEXT>>
;trim(current().GetTaggedValueAsString("UMLStandard", "UseCaseSpecification", "Postconditions"));</p:text></p:cm><p:cm authorId="0" dt="2005-10-29T14:17:08.093000000" idx="21"><p:pos x="4344" y="4160"/><p:text><<ENDREPEAT>></p:text></p:cm><p:cm authorId="0" dt="2005-10-29T14:17:08.093000000" idx="22"><p:pos x="5200" y="4160"/><p:text><<ENDREPEAT>>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D15E-0849-4BAB-BA78-90B19E345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6B60-AA30-4F16-971F-494FFD18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B3C3-29E3-4461-A3CB-EA9AE9BC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8CBC-50F1-4204-BDD6-959F215773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DE47B-9DD4-435F-87B4-22D85AAD1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E211B-F722-42AA-97B8-7E95605D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22A75-BF93-43F6-913B-9D47B379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83772-9A49-41F9-84C7-A7B5D05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DF33C-ECFE-444D-B21C-7C2FBFFD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067FD-A4EA-4050-ADD2-9C1517A4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0964B-0296-4BB4-AE19-6165CD3E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131E-9A1B-432A-BAE3-A811EAA6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FD535-6E42-4EAE-BE20-B0903B76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3AFF2-7FAB-4337-B5B9-E86FBFC0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E30F9-FC49-4361-AF30-C15C2B4A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B8D0A-DBE2-4BA6-A026-5DC7BAA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6287E-E984-4BF6-8272-4B277B01B5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4061-DBFF-4168-8C17-F672D131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6A39-1D97-47CC-89E1-8EDC9EFB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B7D7-BF5D-490C-9EE3-93F0D938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5C2E-1B61-46A8-9297-9C359CF8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71E1-F421-45A2-B5BB-1C39A1E8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C196-EB6F-4AD8-8890-1BA65325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54F6-CD41-4BEA-B107-166831D1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74D6-7800-4C03-B29F-713E8FCAD233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F0D-6D91-409E-9E21-213F43446DE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ED0D-E716-43D3-BCE0-513F6339AB9C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9ACB-8D0E-44D6-A1A7-851D4492E4CB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$$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5BD68-1D8B-480C-8974-3CA587BF95F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2EBC04-3795-41DE-8920-C2F4719988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5D73-0EFF-4367-968F-8F16B3B3B6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BBC1FF4-F456-408F-95CF-342D247CE1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0847-FE09-43C1-B1BC-410FD8F1AB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29F83B8-CAB6-401A-A63C-C484778BE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EF63-0416-4885-BDFD-92341231EA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E16C2E0-22C5-47BD-9F62-7BAF9A1B84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8D09-6E7E-4786-A3B1-2E1A21516E4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835D185-1A0B-4B9E-93F0-6EF30FF84A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51DBE-1AED-408A-8659-1BC4CE2C148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EDFC99-D50D-4C8B-986C-9E9B39FC18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김현수</cp:lastModifiedBy>
  <dcterms:modified xsi:type="dcterms:W3CDTF">2005-11-02T04:49:55Z</dcterms:modified>
  <cp:revision>101</cp:revision>
  <dc:subject/>
  <dc:title>Design Review Document</dc:title>
</cp:coreProperties>
</file>