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s/comment3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10080625" cy="7559675"/>
  <p:notesSz cx="7559675" cy="10691813"/>
</p:presentation>
</file>

<file path=ppt/commentAuthors.xml><?xml version="1.0" encoding="utf-8"?>
<p:cmAuthorLst xmlns:p="http://schemas.openxmlformats.org/presentationml/2006/main">
  <p:cmAuthor id="0" name="" initials="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<Relationship Id="rId58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4-10-03T23:44:45.000000000" idx="1">
    <p:pos x="0" y="0"/>
    <p:text>Тема моего выступления - ядро реального времени TNKernel, которая наверняка многим из вас известна благодаря тому, что Алекс ее портировал сначала на PIC24, потом на PIC32.
Чтобы мне понимать, вопрос к аудитории: кто из вас использует TNKernel или хотя бы знаком с ней?
Я использую порт от Алекса довольно давно, и что мне в нем не нравится – это то, как прерывания обращаются со стеком задач.</p:text>
  </p:cm>
</p:cmLst>
</file>

<file path=ppt/comments/comment2.xml><?xml version="1.0" encoding="utf-8"?>
<p:cmLst xmlns:p="http://schemas.openxmlformats.org/presentationml/2006/main">
  <p:cm authorId="0" dt="2014-10-03T23:48:26.000000000" idx="2">
    <p:pos x="0" y="0"/>
    <p:text>Когда мы планируем стек под задачу ...</p:text>
  </p:cm>
</p:cmLst>
</file>

<file path=ppt/comments/comment33.xml><?xml version="1.0" encoding="utf-8"?>
<p:cmLst xmlns:p="http://schemas.openxmlformats.org/presentationml/2006/main">
  <p:cm authorId="0" dt="2014-10-01T21:28:33.000000000" idx="3">
    <p:pos x="0" y="0"/>
    <p:text>Это причина самых неприятных багов – багов, которые воспроизводятся редко, может быть, раз в несколько дней или даже недель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C83-0E6C-49A0-9341-040484B0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37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358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41000"/>
            <a:ext cx="88358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3976-BE33-410D-B82A-B2533199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37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11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1000" y="1767960"/>
            <a:ext cx="4311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41000"/>
            <a:ext cx="4311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1000" y="4041000"/>
            <a:ext cx="4311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F41-B99B-40A4-AAD2-77E1725D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37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44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0560" y="1767960"/>
            <a:ext cx="2844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7840" y="1767960"/>
            <a:ext cx="2844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41000"/>
            <a:ext cx="2844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0560" y="4041000"/>
            <a:ext cx="2844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7840" y="4041000"/>
            <a:ext cx="2844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A4BB-03C3-40B3-8EF3-F351375B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37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358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AAB-9D72-417C-8191-2CD10288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37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358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894-1280-423D-B980-D958274F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37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11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1000" y="1767960"/>
            <a:ext cx="4311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BBB4-0F6C-4556-A7B1-F7828886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37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2843-7693-407E-A776-53326903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37440" cy="56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3C4-85FF-42BF-9ED9-24A41C82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37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11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1000" y="1767960"/>
            <a:ext cx="4311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41000"/>
            <a:ext cx="4311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68D4-4CF0-431E-94DD-18D48990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37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11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1000" y="1767960"/>
            <a:ext cx="4311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1000" y="4041000"/>
            <a:ext cx="4311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3E3-29A6-44DA-AEC4-704E998D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37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11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1000" y="1767960"/>
            <a:ext cx="4311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41000"/>
            <a:ext cx="88358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D8F-55C0-4CF1-AEB6-E1B8582E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37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358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1444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6224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1444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A2E2C-0E0C-4489-A1C0-3B1FE1EA2FCF}" type="slidenum">
              <a:rPr b="0" lang="ru-RU" sz="2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TNKer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91840" y="1427040"/>
            <a:ext cx="88693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 порта от Alex.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 самого яд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ы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36600" y="1844640"/>
            <a:ext cx="216000" cy="21600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74920" y="423864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7440" y="3632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95520" y="3649680"/>
            <a:ext cx="1440" cy="398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ы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36600" y="1844640"/>
            <a:ext cx="216000" cy="21600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74920" y="423864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ванное 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74920" y="423864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681200" y="4259160"/>
            <a:ext cx="1440" cy="400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ванное 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74920" y="423864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81200" y="4259160"/>
            <a:ext cx="1440" cy="400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400" y="4503600"/>
            <a:ext cx="1680840" cy="1800"/>
          </a:xfrm>
          <a:prstGeom prst="line">
            <a:avLst/>
          </a:prstGeom>
          <a:ln w="3600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9400" y="4191120"/>
            <a:ext cx="15332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ванное 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74920" y="4238640"/>
            <a:ext cx="414360" cy="26352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4920" y="381492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687680" y="3828960"/>
            <a:ext cx="1440" cy="400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74920" y="4502160"/>
            <a:ext cx="414360" cy="1602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ванное 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4920" y="4238640"/>
            <a:ext cx="414360" cy="26352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76360" y="3232080"/>
            <a:ext cx="412920" cy="5828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4920" y="381492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74920" y="4502160"/>
            <a:ext cx="414360" cy="1602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ванное 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158920" y="1812960"/>
            <a:ext cx="216000" cy="21600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74920" y="4238640"/>
            <a:ext cx="414360" cy="26352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74920" y="381492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87600" y="3646440"/>
            <a:ext cx="1440" cy="3351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74920" y="4502160"/>
            <a:ext cx="414360" cy="1602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ванное 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74920" y="4238640"/>
            <a:ext cx="414360" cy="26352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74920" y="4502160"/>
            <a:ext cx="414360" cy="1602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69880" y="380988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58920" y="1812960"/>
            <a:ext cx="216000" cy="21600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ванное 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74920" y="4238640"/>
            <a:ext cx="414360" cy="26352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74920" y="381492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487600" y="3625920"/>
            <a:ext cx="1440" cy="387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74920" y="4502160"/>
            <a:ext cx="414360" cy="1602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158920" y="1812960"/>
            <a:ext cx="216000" cy="21600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ванное 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74920" y="4238640"/>
            <a:ext cx="414360" cy="26352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74920" y="381492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685880" y="3897360"/>
            <a:ext cx="1800" cy="298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74920" y="4502160"/>
            <a:ext cx="414360" cy="1602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ирование стека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69880" y="4214880"/>
            <a:ext cx="41292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69880" y="3606840"/>
            <a:ext cx="412920" cy="58248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4560" y="2998800"/>
            <a:ext cx="414360" cy="58248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43280" y="3541680"/>
            <a:ext cx="575964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SR требуют 64 сло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истеме 5 зада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расход RAM на стек IS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4 * 5 * 4 = 1280 бай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ванное 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474920" y="4238640"/>
            <a:ext cx="414360" cy="26352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74920" y="4502160"/>
            <a:ext cx="414360" cy="1602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670040" y="4260960"/>
            <a:ext cx="1440" cy="387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ванное 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74920" y="423864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66800" y="4248000"/>
            <a:ext cx="1800" cy="374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ванное 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ванное 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74920" y="423864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1681200" y="4259160"/>
            <a:ext cx="1440" cy="400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ванное 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474920" y="423864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681200" y="4259160"/>
            <a:ext cx="1440" cy="400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49400" y="4503600"/>
            <a:ext cx="1680840" cy="1800"/>
          </a:xfrm>
          <a:prstGeom prst="line">
            <a:avLst/>
          </a:prstGeom>
          <a:ln w="3600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9400" y="4191120"/>
            <a:ext cx="16808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ванное 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74920" y="4238640"/>
            <a:ext cx="414360" cy="26352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381492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687680" y="3828960"/>
            <a:ext cx="1440" cy="400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74920" y="4502160"/>
            <a:ext cx="414360" cy="1602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ванное 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74920" y="4238640"/>
            <a:ext cx="414360" cy="26352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76360" y="3232080"/>
            <a:ext cx="412920" cy="5828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474920" y="381492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474920" y="4502160"/>
            <a:ext cx="414360" cy="1602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ванное 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158920" y="1812960"/>
            <a:ext cx="216000" cy="21600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74920" y="4238640"/>
            <a:ext cx="414360" cy="26352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474920" y="381492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487600" y="3646440"/>
            <a:ext cx="1440" cy="3351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474920" y="4502160"/>
            <a:ext cx="414360" cy="1602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ванное 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74920" y="4238640"/>
            <a:ext cx="414360" cy="26352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474920" y="4502160"/>
            <a:ext cx="414360" cy="1602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69880" y="380988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58920" y="1812960"/>
            <a:ext cx="216000" cy="21600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ванное 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74920" y="4238640"/>
            <a:ext cx="414360" cy="26352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74920" y="381492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487600" y="3625920"/>
            <a:ext cx="1440" cy="387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474920" y="4502160"/>
            <a:ext cx="414360" cy="1602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158920" y="1812960"/>
            <a:ext cx="216000" cy="21600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ванное 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474920" y="4238640"/>
            <a:ext cx="414360" cy="26352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474920" y="381492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85880" y="3897360"/>
            <a:ext cx="1800" cy="298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474920" y="4502160"/>
            <a:ext cx="414360" cy="1602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ванное 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74920" y="4238640"/>
            <a:ext cx="414360" cy="26352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4920" y="381492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685880" y="3897360"/>
            <a:ext cx="1800" cy="298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474920" y="4502160"/>
            <a:ext cx="414360" cy="1602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58840" y="3943440"/>
            <a:ext cx="1612800" cy="1440"/>
          </a:xfrm>
          <a:prstGeom prst="line">
            <a:avLst/>
          </a:prstGeom>
          <a:ln w="3600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90440" y="3630600"/>
            <a:ext cx="1609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ванное 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474920" y="4238640"/>
            <a:ext cx="414360" cy="26352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685880" y="3897360"/>
            <a:ext cx="1800" cy="298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474920" y="4502160"/>
            <a:ext cx="414360" cy="1602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69880" y="3816360"/>
            <a:ext cx="414360" cy="26352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469880" y="4079880"/>
            <a:ext cx="414360" cy="1602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469880" y="339264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690560" y="3408480"/>
            <a:ext cx="1800" cy="387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ванное 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74920" y="4238640"/>
            <a:ext cx="414360" cy="26352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685880" y="3897360"/>
            <a:ext cx="1800" cy="298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474920" y="4502160"/>
            <a:ext cx="414360" cy="1602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69880" y="3816360"/>
            <a:ext cx="414360" cy="26352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69880" y="4079880"/>
            <a:ext cx="414360" cy="1602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469880" y="339264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471680" y="2789280"/>
            <a:ext cx="412560" cy="58248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62000" y="2879640"/>
            <a:ext cx="19987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Stack overf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ирование стека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18680" y="1590480"/>
            <a:ext cx="886932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уче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ребление самой за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4 слова контек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ребление всех ISR с учетом их влож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4 слова контекста для каждого отдельного «системного» преры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того, нужно убедиться, что прерывания не могут происходить слишком ча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31640" y="5243400"/>
            <a:ext cx="9215640" cy="19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ISR требуют 64 сло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в системе 5 задач и 3 «системных» прерыв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расход RAM на стек I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64 + 34 * 3) * 5 * 4 = 3320 б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7800" y="344952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ый стек для прерыв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74920" y="423864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1681200" y="4259160"/>
            <a:ext cx="1440" cy="400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095640" y="4608360"/>
            <a:ext cx="482760" cy="144000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122640" y="6350040"/>
            <a:ext cx="477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ый стек для прерыв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474920" y="423864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681200" y="4259160"/>
            <a:ext cx="1440" cy="400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49400" y="4503600"/>
            <a:ext cx="1680840" cy="1800"/>
          </a:xfrm>
          <a:prstGeom prst="line">
            <a:avLst/>
          </a:prstGeom>
          <a:ln w="3600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9400" y="4191120"/>
            <a:ext cx="1220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095640" y="4608360"/>
            <a:ext cx="482760" cy="144000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122640" y="6350040"/>
            <a:ext cx="477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ый стек для прерыв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095640" y="4608360"/>
            <a:ext cx="482760" cy="144000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122640" y="6350040"/>
            <a:ext cx="477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29120" y="5832360"/>
            <a:ext cx="414360" cy="2034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3346560" y="5799240"/>
            <a:ext cx="1440" cy="263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469880" y="4233960"/>
            <a:ext cx="414360" cy="26352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469880" y="4497480"/>
            <a:ext cx="414360" cy="1602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ый стек для прерыв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095640" y="4608360"/>
            <a:ext cx="482760" cy="144000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122640" y="6350040"/>
            <a:ext cx="477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129120" y="5832360"/>
            <a:ext cx="414360" cy="2034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469880" y="4233960"/>
            <a:ext cx="414360" cy="26352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469880" y="4497480"/>
            <a:ext cx="414360" cy="1602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130560" y="5256360"/>
            <a:ext cx="412920" cy="58248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ый стек для прерыв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095640" y="4608360"/>
            <a:ext cx="482760" cy="144000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122640" y="6350040"/>
            <a:ext cx="477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129120" y="5832360"/>
            <a:ext cx="414360" cy="2034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336840" y="5842080"/>
            <a:ext cx="1800" cy="206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469880" y="4233960"/>
            <a:ext cx="414360" cy="26352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469880" y="4497480"/>
            <a:ext cx="414360" cy="1602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4920" y="423864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681200" y="4259160"/>
            <a:ext cx="1440" cy="400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ый стек для прерыв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295280" y="2664000"/>
            <a:ext cx="216000" cy="21564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095640" y="4608360"/>
            <a:ext cx="482760" cy="144000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122640" y="6350040"/>
            <a:ext cx="477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69880" y="4233960"/>
            <a:ext cx="414360" cy="263520"/>
          </a:xfrm>
          <a:prstGeom prst="rect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469880" y="4497480"/>
            <a:ext cx="414360" cy="1602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1644480" y="4259160"/>
            <a:ext cx="1800" cy="400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ый стек для прерыв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160720" y="1871640"/>
            <a:ext cx="215640" cy="21600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095640" y="4608360"/>
            <a:ext cx="482760" cy="144000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122640" y="6350040"/>
            <a:ext cx="477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523960" y="3618000"/>
            <a:ext cx="1800" cy="411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474920" y="423864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ый стек для прерыв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095640" y="4608360"/>
            <a:ext cx="482760" cy="144000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122640" y="6350040"/>
            <a:ext cx="477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474920" y="423864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155680" y="1866960"/>
            <a:ext cx="216000" cy="21600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ый стек для прерыв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18680" y="1368000"/>
            <a:ext cx="886932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RAM расходуется мен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RAM расходуется более предсказуе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SR сохраняют неполный контекст → работает быст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SR могут использовать shadow register set → работает еще быст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после выполнения ISR нужно переключиться на другую задачу, то это работает медленнее в 1.5 — 1.8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07800" y="344952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9864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TNKernel-PIC32 by Anders Monto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345600" y="2160720"/>
            <a:ext cx="8869320" cy="272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TNKernel 2.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дельный стек для прерыва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держка вложенных прерыва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держка shadow register set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т плюшек, присутствующих в порте Алекс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07800" y="344952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-144360" y="1762200"/>
            <a:ext cx="9864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s://github.com/andersm/TNKernel-PI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79400" y="4751280"/>
            <a:ext cx="7932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крос tn_sys_interrupt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рвис tn_sys_time_get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добный tn_task_cre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борка как отдельная библиоте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9864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ючевые проблемы TNKer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31640" y="1377720"/>
            <a:ext cx="8869680" cy="495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NKernel написана «на колен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тес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666"/>
                </a:solidFill>
                <a:latin typeface="Arial"/>
              </a:rPr>
              <a:t>Следствие: наличие багов и сложность сопров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ументация живет отдельно от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оддерживается: нулевая реакция на багфик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07800" y="344952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9864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ютексы TNKernel: баг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307800" y="3903840"/>
            <a:ext cx="181080" cy="25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36720" y="6551640"/>
            <a:ext cx="1152360" cy="1440"/>
          </a:xfrm>
          <a:prstGeom prst="line">
            <a:avLst/>
          </a:prstGeom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936720" y="5256360"/>
            <a:ext cx="1152360" cy="1440"/>
          </a:xfrm>
          <a:prstGeom prst="line">
            <a:avLst/>
          </a:prstGeom>
          <a:ln w="36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857160" y="6191280"/>
            <a:ext cx="366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dc23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20720" y="2214360"/>
            <a:ext cx="1440" cy="4786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20720" y="6983280"/>
            <a:ext cx="871236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8999640" y="7086600"/>
            <a:ext cx="1152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60360" y="1871640"/>
            <a:ext cx="10508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16000" y="6335640"/>
            <a:ext cx="6001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82440" y="5070600"/>
            <a:ext cx="709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857160" y="4854600"/>
            <a:ext cx="3668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47ff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087640" y="6551640"/>
            <a:ext cx="1152360" cy="1440"/>
          </a:xfrm>
          <a:prstGeom prst="line">
            <a:avLst/>
          </a:prstGeom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944720" y="6408720"/>
            <a:ext cx="360360" cy="287280"/>
          </a:xfrm>
          <a:prstGeom prst="ellipse">
            <a:avLst/>
          </a:prstGeom>
          <a:solidFill>
            <a:srgbClr val="33cc66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087640" y="5256360"/>
            <a:ext cx="1152360" cy="1440"/>
          </a:xfrm>
          <a:prstGeom prst="line">
            <a:avLst/>
          </a:prstGeom>
          <a:ln w="36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3204720" y="5400720"/>
            <a:ext cx="268200" cy="1133280"/>
          </a:xfrm>
          <a:prstGeom prst="line">
            <a:avLst/>
          </a:prstGeom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311640" y="5256360"/>
            <a:ext cx="115236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438360" y="5381640"/>
            <a:ext cx="1025640" cy="1440"/>
          </a:xfrm>
          <a:prstGeom prst="line">
            <a:avLst/>
          </a:prstGeom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095640" y="5111640"/>
            <a:ext cx="360360" cy="287280"/>
          </a:xfrm>
          <a:prstGeom prst="ellipse">
            <a:avLst/>
          </a:prstGeom>
          <a:solidFill>
            <a:srgbClr val="dc2300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040360" y="4176720"/>
            <a:ext cx="1096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518000" y="5381640"/>
            <a:ext cx="3186000" cy="17280"/>
          </a:xfrm>
          <a:prstGeom prst="line">
            <a:avLst/>
          </a:prstGeom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35640" y="5256360"/>
            <a:ext cx="3168360" cy="1440"/>
          </a:xfrm>
          <a:prstGeom prst="line">
            <a:avLst/>
          </a:prstGeom>
          <a:ln w="36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319640" y="5094360"/>
            <a:ext cx="360360" cy="287280"/>
          </a:xfrm>
          <a:prstGeom prst="ellipse">
            <a:avLst/>
          </a:prstGeom>
          <a:solidFill>
            <a:srgbClr val="999999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4662360" y="4392720"/>
            <a:ext cx="395280" cy="576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5310360" y="5454360"/>
            <a:ext cx="1258560" cy="971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07080" y="6191280"/>
            <a:ext cx="28972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ug: priority of A remains elev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032360" y="1511280"/>
            <a:ext cx="1152360" cy="1440"/>
          </a:xfrm>
          <a:prstGeom prst="line">
            <a:avLst/>
          </a:prstGeom>
          <a:ln w="36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256360" y="1295280"/>
            <a:ext cx="2376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running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032360" y="1830240"/>
            <a:ext cx="1152360" cy="180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256360" y="1614600"/>
            <a:ext cx="23763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waiting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824360" y="2016000"/>
            <a:ext cx="360360" cy="287640"/>
          </a:xfrm>
          <a:prstGeom prst="ellipse">
            <a:avLst/>
          </a:prstGeom>
          <a:solidFill>
            <a:srgbClr val="33cc66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256360" y="1974960"/>
            <a:ext cx="23763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mutex loc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38720" y="2333520"/>
            <a:ext cx="31147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failed to lock mut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805280" y="2705040"/>
            <a:ext cx="360360" cy="287280"/>
          </a:xfrm>
          <a:prstGeom prst="ellipse">
            <a:avLst/>
          </a:prstGeom>
          <a:solidFill>
            <a:srgbClr val="808080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238720" y="2664000"/>
            <a:ext cx="45547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cancel locking mutex by time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805280" y="3035160"/>
            <a:ext cx="360360" cy="287640"/>
          </a:xfrm>
          <a:prstGeom prst="ellipse">
            <a:avLst/>
          </a:prstGeom>
          <a:solidFill>
            <a:srgbClr val="cfe7f5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238720" y="2994120"/>
            <a:ext cx="23763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mutex unloc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824360" y="2376360"/>
            <a:ext cx="360360" cy="287640"/>
          </a:xfrm>
          <a:prstGeom prst="ellipse">
            <a:avLst/>
          </a:prstGeom>
          <a:solidFill>
            <a:srgbClr val="dc2300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9864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ютексы TNKernel: баг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307800" y="3903840"/>
            <a:ext cx="181080" cy="25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936720" y="6551640"/>
            <a:ext cx="1152360" cy="1440"/>
          </a:xfrm>
          <a:prstGeom prst="line">
            <a:avLst/>
          </a:prstGeom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36720" y="5256360"/>
            <a:ext cx="1152360" cy="1440"/>
          </a:xfrm>
          <a:prstGeom prst="line">
            <a:avLst/>
          </a:prstGeom>
          <a:ln w="36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41520" y="6264360"/>
            <a:ext cx="366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dc23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720720" y="2214360"/>
            <a:ext cx="1440" cy="4786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20720" y="6983280"/>
            <a:ext cx="871236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8999640" y="7086600"/>
            <a:ext cx="1152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60360" y="1871640"/>
            <a:ext cx="10508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16000" y="6335640"/>
            <a:ext cx="6001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82440" y="5070600"/>
            <a:ext cx="709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47640" y="4997520"/>
            <a:ext cx="382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47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87640" y="6551640"/>
            <a:ext cx="1152360" cy="1440"/>
          </a:xfrm>
          <a:prstGeom prst="line">
            <a:avLst/>
          </a:prstGeom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44720" y="6408720"/>
            <a:ext cx="360360" cy="287280"/>
          </a:xfrm>
          <a:prstGeom prst="ellipse">
            <a:avLst/>
          </a:prstGeom>
          <a:solidFill>
            <a:srgbClr val="33cc66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87640" y="5256360"/>
            <a:ext cx="1152360" cy="1440"/>
          </a:xfrm>
          <a:prstGeom prst="line">
            <a:avLst/>
          </a:prstGeom>
          <a:ln w="36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4357440" y="5364000"/>
            <a:ext cx="322200" cy="1187640"/>
          </a:xfrm>
          <a:prstGeom prst="line">
            <a:avLst/>
          </a:prstGeom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535640" y="5238720"/>
            <a:ext cx="4464000" cy="176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662360" y="5364000"/>
            <a:ext cx="1025640" cy="1800"/>
          </a:xfrm>
          <a:prstGeom prst="line">
            <a:avLst/>
          </a:prstGeom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032360" y="1511280"/>
            <a:ext cx="1152360" cy="1440"/>
          </a:xfrm>
          <a:prstGeom prst="line">
            <a:avLst/>
          </a:prstGeom>
          <a:ln w="36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256360" y="1295280"/>
            <a:ext cx="2376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running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032360" y="1830240"/>
            <a:ext cx="1152360" cy="180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256360" y="1614600"/>
            <a:ext cx="23763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waiting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824360" y="2016000"/>
            <a:ext cx="360360" cy="287640"/>
          </a:xfrm>
          <a:prstGeom prst="ellipse">
            <a:avLst/>
          </a:prstGeom>
          <a:solidFill>
            <a:srgbClr val="33cc66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256360" y="1974960"/>
            <a:ext cx="23763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mutex loc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238720" y="2333520"/>
            <a:ext cx="31147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failed to lock mut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805280" y="2705040"/>
            <a:ext cx="360360" cy="287280"/>
          </a:xfrm>
          <a:prstGeom prst="ellipse">
            <a:avLst/>
          </a:prstGeom>
          <a:solidFill>
            <a:srgbClr val="808080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238720" y="2664000"/>
            <a:ext cx="45547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cancel locking mutex by time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805280" y="3035160"/>
            <a:ext cx="360360" cy="287640"/>
          </a:xfrm>
          <a:prstGeom prst="ellipse">
            <a:avLst/>
          </a:prstGeom>
          <a:solidFill>
            <a:srgbClr val="cfe7f5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238720" y="2994120"/>
            <a:ext cx="23763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mutex unloc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824360" y="2376360"/>
            <a:ext cx="360360" cy="287640"/>
          </a:xfrm>
          <a:prstGeom prst="ellipse">
            <a:avLst/>
          </a:prstGeom>
          <a:solidFill>
            <a:srgbClr val="dc2300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936720" y="6767640"/>
            <a:ext cx="1152360" cy="1440"/>
          </a:xfrm>
          <a:prstGeom prst="line">
            <a:avLst/>
          </a:prstGeom>
          <a:ln w="36000">
            <a:solidFill>
              <a:srgbClr val="ff95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41520" y="6551640"/>
            <a:ext cx="366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9966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070000" y="6767640"/>
            <a:ext cx="1152720" cy="1440"/>
          </a:xfrm>
          <a:prstGeom prst="line">
            <a:avLst/>
          </a:prstGeom>
          <a:ln w="36000">
            <a:solidFill>
              <a:srgbClr val="ff95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222720" y="6551640"/>
            <a:ext cx="1152360" cy="1440"/>
          </a:xfrm>
          <a:prstGeom prst="line">
            <a:avLst/>
          </a:prstGeom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240000" y="5256360"/>
            <a:ext cx="1152720" cy="1440"/>
          </a:xfrm>
          <a:prstGeom prst="line">
            <a:avLst/>
          </a:prstGeom>
          <a:ln w="36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240000" y="6767640"/>
            <a:ext cx="1152720" cy="1440"/>
          </a:xfrm>
          <a:prstGeom prst="line">
            <a:avLst/>
          </a:prstGeom>
          <a:ln w="36000">
            <a:solidFill>
              <a:srgbClr val="ff950e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373640" y="6767640"/>
            <a:ext cx="1457280" cy="1440"/>
          </a:xfrm>
          <a:prstGeom prst="line">
            <a:avLst/>
          </a:prstGeom>
          <a:ln w="36000">
            <a:solidFill>
              <a:srgbClr val="ff950e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095640" y="6624720"/>
            <a:ext cx="360360" cy="287280"/>
          </a:xfrm>
          <a:prstGeom prst="ellipse">
            <a:avLst/>
          </a:prstGeom>
          <a:solidFill>
            <a:srgbClr val="dc2300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 flipV="1">
            <a:off x="5652720" y="5327640"/>
            <a:ext cx="268200" cy="1241280"/>
          </a:xfrm>
          <a:prstGeom prst="line">
            <a:avLst/>
          </a:prstGeom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43640" y="5238720"/>
            <a:ext cx="360360" cy="287280"/>
          </a:xfrm>
          <a:prstGeom prst="ellipse">
            <a:avLst/>
          </a:prstGeom>
          <a:solidFill>
            <a:srgbClr val="cfe7f5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813280" y="6767640"/>
            <a:ext cx="3330720" cy="1440"/>
          </a:xfrm>
          <a:prstGeom prst="line">
            <a:avLst/>
          </a:prstGeom>
          <a:ln w="36000">
            <a:solidFill>
              <a:srgbClr val="ff95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904000" y="6551640"/>
            <a:ext cx="3311280" cy="1440"/>
          </a:xfrm>
          <a:prstGeom prst="line">
            <a:avLst/>
          </a:prstGeom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543640" y="6624720"/>
            <a:ext cx="360360" cy="287280"/>
          </a:xfrm>
          <a:prstGeom prst="ellipse">
            <a:avLst/>
          </a:prstGeom>
          <a:solidFill>
            <a:srgbClr val="33cc66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421320" y="4464000"/>
            <a:ext cx="22179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priority i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6173280" y="4865760"/>
            <a:ext cx="265320" cy="371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6391080" y="4967280"/>
            <a:ext cx="106200" cy="1728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319640" y="5094360"/>
            <a:ext cx="360360" cy="287280"/>
          </a:xfrm>
          <a:prstGeom prst="ellipse">
            <a:avLst/>
          </a:prstGeom>
          <a:solidFill>
            <a:srgbClr val="dc2300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2920" y="236520"/>
            <a:ext cx="90709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дна точка входа, одна точка вых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90320" y="1257480"/>
            <a:ext cx="4692600" cy="554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int my_function(void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if (error1())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ERROR1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800000"/>
                </a:solidFill>
                <a:latin typeface="Courier New"/>
              </a:rPr>
              <a:t>tn_disable_interrupt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//-- do someth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if (error2())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500" spc="-1" strike="noStrike">
                <a:solidFill>
                  <a:srgbClr val="008000"/>
                </a:solidFill>
                <a:latin typeface="Courier New"/>
              </a:rPr>
              <a:t>tn_enable_interrupt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ERROR2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if (error3())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500" spc="-1" strike="noStrike">
                <a:solidFill>
                  <a:srgbClr val="008000"/>
                </a:solidFill>
                <a:latin typeface="Courier New"/>
              </a:rPr>
              <a:t>tn_enable_interrupt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ERROR3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//-- perform jo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8000"/>
                </a:solidFill>
                <a:latin typeface="Courier New"/>
              </a:rPr>
              <a:t>tn_enable_interrupt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SUCCES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7800" y="344952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02920" y="236520"/>
            <a:ext cx="90709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дна точка входа, одна точка вых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490320" y="1257480"/>
            <a:ext cx="4692600" cy="554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int my_function(void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if (error1())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ERROR1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800000"/>
                </a:solidFill>
                <a:latin typeface="Courier New"/>
              </a:rPr>
              <a:t>tn_disable_interrupt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//-- do someth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if (error2())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500" spc="-1" strike="noStrike">
                <a:solidFill>
                  <a:srgbClr val="008000"/>
                </a:solidFill>
                <a:latin typeface="Courier New"/>
              </a:rPr>
              <a:t>tn_enable_interrupt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ERROR2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if (error3())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500" spc="-1" strike="noStrike">
                <a:solidFill>
                  <a:srgbClr val="008000"/>
                </a:solidFill>
                <a:latin typeface="Courier New"/>
              </a:rPr>
              <a:t>tn_enable_interrupt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ERROR3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//-- perform jo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8000"/>
                </a:solidFill>
                <a:latin typeface="Courier New"/>
              </a:rPr>
              <a:t>tn_enable_interrupt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SUCCES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07800" y="344952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099040" y="1222200"/>
            <a:ext cx="469260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int my_function(void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int rc = SUCCES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if (error1())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rc = ERROR1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500" spc="-1" strike="noStrike">
                <a:solidFill>
                  <a:srgbClr val="800000"/>
                </a:solidFill>
                <a:latin typeface="Courier New"/>
              </a:rPr>
              <a:t>tn_disable_interrupt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//-- do someth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if (error2())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rc = ERROR2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} else if (error3())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rc = ERROR3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//-- perform jo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500" spc="-1" strike="noStrike">
                <a:solidFill>
                  <a:srgbClr val="008000"/>
                </a:solidFill>
                <a:latin typeface="Courier New"/>
              </a:rPr>
              <a:t>tn_enable_interrupt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rc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4560" y="3605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36600" y="1844640"/>
            <a:ext cx="216000" cy="21600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4920" y="423864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89040" y="3652920"/>
            <a:ext cx="1800" cy="336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2920" y="236520"/>
            <a:ext cx="90709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дна точка входа, одна точка вых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31640" y="1918800"/>
            <a:ext cx="89409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int tn_sys_tslice_ticks(int priority,int valu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TN_INTSAVE_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TN_CHECK_NON_INT_CON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800000"/>
                </a:solidFill>
                <a:latin typeface="Courier New"/>
              </a:rPr>
              <a:t>tn_disable_interrupt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if(priority &lt;= 0 || priority &gt;= TN_NUM_PRIORITY-1 ||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value &lt; 0 || value &gt; MAX_TIME_SLIC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TERR_WRONG_PARAM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tn_tslice_ticks[priority] = valu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500" spc="-1" strike="noStrike">
                <a:solidFill>
                  <a:srgbClr val="008000"/>
                </a:solidFill>
                <a:latin typeface="Courier New"/>
              </a:rPr>
              <a:t>tn_enable_interrupt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 TERR_NO_ERR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07800" y="344952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2920" y="236520"/>
            <a:ext cx="90709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DRY: Don't repeat your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215640" y="1315800"/>
            <a:ext cx="4608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ourier New"/>
              </a:rPr>
              <a:t>from tn_mutex_delete()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CDLL_QUEUE * q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TN_TCB * task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while(!is_queue_empty(&amp;(mutex-&gt;wait_queue))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que  =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queue_remove_head(&amp;(mutex-&gt;wait_queue)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task = get_task_by_tsk_queue(que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//-- If the task in system'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//   blocked list, remove 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if(task_wait_complete(task)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task-&gt;task_wait_rc = TERR_DL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tn_enable_interrupt(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tn_switch_context(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tn_disable_interrupt(); // v.2.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07800" y="344952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111640" y="1224000"/>
            <a:ext cx="47516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ourier New"/>
              </a:rPr>
              <a:t>from tn_sem_delete()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CDLL_QUEUE * q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TN_TCB * task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while(!is_queue_empty(&amp;(sem-&gt;wait_queue))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//--- delete from the sem wait que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que = queue_remove_head(&amp;(sem-&gt;wait_queue)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task = get_task_by_tsk_queue(que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if(task_wait_complete(task)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task-&gt;task_wait_rc = TERR_DL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tn_enable_interrupt(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tn_switch_context(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tn_disable_interrupt(); // v.2.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16000" y="5486400"/>
            <a:ext cx="966132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ходы между состояниями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хожие сервисы: tn_sem_acquire() / tn_sem_acquire_polling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ютексы: управление приоритетами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яд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18680" y="849240"/>
            <a:ext cx="8869320" cy="586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робные, формализованные юнит-те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стью пересмотренный и почти полностью переписанный код TNKer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о оформленные исходные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матическая генерация документации из исход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местимость большей части API (требуются тривиальные изменения кода прилож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дельный стек преры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07800" y="344952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ые возмож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418680" y="817560"/>
            <a:ext cx="8869320" cy="2690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й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урсивные мютек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eadlock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Event group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07800" y="344952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33440" y="3686040"/>
            <a:ext cx="9070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87280" y="4260960"/>
            <a:ext cx="886932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ortex M3/M4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77440" y="1762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TNeoKern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369720" y="3227400"/>
            <a:ext cx="8869680" cy="23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68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68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рs://bitbucket.org/dfrank/tneoker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07800" y="344952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ключение кон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36600" y="1844640"/>
            <a:ext cx="216000" cy="21600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23864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ы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6600" y="1844640"/>
            <a:ext cx="216000" cy="21600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74920" y="423864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4520" y="4102200"/>
            <a:ext cx="1612800" cy="1440"/>
          </a:xfrm>
          <a:prstGeom prst="line">
            <a:avLst/>
          </a:prstGeom>
          <a:ln w="3600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79640" y="3733920"/>
            <a:ext cx="13683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ы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36600" y="1844640"/>
            <a:ext cx="216000" cy="21600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74920" y="423864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7440" y="3632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95520" y="3627000"/>
            <a:ext cx="1440" cy="399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ры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0000" y="2789280"/>
            <a:ext cx="482400" cy="32734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4920" y="4662360"/>
            <a:ext cx="414360" cy="134784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54320" y="1944720"/>
            <a:ext cx="482400" cy="41180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7440" y="4056120"/>
            <a:ext cx="414360" cy="195408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908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68440" y="63532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924680" y="1509840"/>
            <a:ext cx="216000" cy="21564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80280" y="1440000"/>
            <a:ext cx="646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24680" y="1908000"/>
            <a:ext cx="216000" cy="21600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77040" y="1836720"/>
            <a:ext cx="1327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924680" y="2340000"/>
            <a:ext cx="216000" cy="216000"/>
          </a:xfrm>
          <a:prstGeom prst="rect">
            <a:avLst/>
          </a:prstGeom>
          <a:solidFill>
            <a:srgbClr val="3deb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77040" y="2268360"/>
            <a:ext cx="111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6600" y="1844640"/>
            <a:ext cx="216000" cy="216000"/>
          </a:xfrm>
          <a:prstGeom prst="ellipse">
            <a:avLst/>
          </a:prstGeom>
          <a:solidFill>
            <a:srgbClr val="b8004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4920" y="4238640"/>
            <a:ext cx="414360" cy="42372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7440" y="3632040"/>
            <a:ext cx="414360" cy="424080"/>
          </a:xfrm>
          <a:prstGeom prst="rect">
            <a:avLst/>
          </a:prstGeom>
          <a:solidFill>
            <a:srgbClr val="9999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9240" y="3049560"/>
            <a:ext cx="412560" cy="582480"/>
          </a:xfrm>
          <a:prstGeom prst="rect">
            <a:avLst/>
          </a:prstGeom>
          <a:solidFill>
            <a:srgbClr val="eb613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9:30:21Z</dcterms:created>
  <dc:creator/>
  <dc:description/>
  <dc:language>en-US</dc:language>
  <cp:lastModifiedBy/>
  <cp:revision>0</cp:revision>
  <dc:subject/>
  <dc:title/>
</cp:coreProperties>
</file>